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1175" cy="10288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CF79-D164-47CB-946F-C03A7841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412920"/>
            <a:ext cx="1646244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400480"/>
            <a:ext cx="1646244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5947920"/>
            <a:ext cx="1646244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CCF-F94F-4BEB-BE34-7864D252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412920"/>
            <a:ext cx="1646244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400480"/>
            <a:ext cx="803340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49560" y="2400480"/>
            <a:ext cx="803340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5947920"/>
            <a:ext cx="803340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349560" y="5947920"/>
            <a:ext cx="803340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7F0-2156-4675-B7C6-39C43349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412920"/>
            <a:ext cx="1646244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400480"/>
            <a:ext cx="530064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480000" y="2400480"/>
            <a:ext cx="530064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046320" y="2400480"/>
            <a:ext cx="530064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5947920"/>
            <a:ext cx="530064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480000" y="5947920"/>
            <a:ext cx="530064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046320" y="5947920"/>
            <a:ext cx="530064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A8ED-A159-4AEB-9FDC-61535AFB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412920"/>
            <a:ext cx="1646244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2400480"/>
            <a:ext cx="16462440" cy="67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2C5-823C-4634-98DD-EBBA67E8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412920"/>
            <a:ext cx="1646244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2400480"/>
            <a:ext cx="16462440" cy="6791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A69B-70BA-4A89-9C5E-0898539B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412920"/>
            <a:ext cx="1646244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400480"/>
            <a:ext cx="8033400" cy="6791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9560" y="2400480"/>
            <a:ext cx="8033400" cy="6791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DB06-8769-4998-8CB3-385CD336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412920"/>
            <a:ext cx="1646244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B72B-3881-4E26-A181-0A70E257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412920"/>
            <a:ext cx="164624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92C-0F3D-421F-8DE8-DF3A62F5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412920"/>
            <a:ext cx="1646244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400480"/>
            <a:ext cx="803340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349560" y="2400480"/>
            <a:ext cx="8033400" cy="6791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5947920"/>
            <a:ext cx="803340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7002-3B3A-4C33-BA9E-DF45357F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412920"/>
            <a:ext cx="1646244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400480"/>
            <a:ext cx="8033400" cy="6791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9560" y="2400480"/>
            <a:ext cx="803340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349560" y="5947920"/>
            <a:ext cx="803340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FC91-257D-4AC3-9A4B-2E0E948C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12920"/>
            <a:ext cx="1646244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400480"/>
            <a:ext cx="803340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9560" y="2400480"/>
            <a:ext cx="803340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5947920"/>
            <a:ext cx="1646244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ECC-DE1F-4BE1-949A-8EB17BD0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412920"/>
            <a:ext cx="1646244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400480"/>
            <a:ext cx="16462440" cy="6791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 fontScale="82000"/>
          </a:bodyPr>
          <a:p>
            <a:pPr marL="562320" indent="-56232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1" marL="1218240" indent="-46872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2" marL="1874520" indent="-37476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3" marL="2624040" indent="-3747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4" marL="3373920" indent="-3747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5" marL="3373920" indent="-3747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6" marL="3373920" indent="-3747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537480"/>
            <a:ext cx="4268880" cy="547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lstStyle>
            <a:lvl1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sr-Latn-R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sr-Latn-RS" sz="2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9600" y="9537480"/>
            <a:ext cx="5791320" cy="547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7960" y="9537480"/>
            <a:ext cx="4268880" cy="547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sr-Latn-R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D12E63-3CDD-4D95-A001-15505D456E3A}" type="slidenum">
              <a:rPr b="0" lang="sr-Latn-R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504720" y="749160"/>
            <a:ext cx="8302680" cy="1582200"/>
            <a:chOff x="504720" y="749160"/>
            <a:chExt cx="8302680" cy="1582200"/>
          </a:xfrm>
        </p:grpSpPr>
        <p:sp>
          <p:nvSpPr>
            <p:cNvPr id="42" name="TextBox 4"/>
            <p:cNvSpPr/>
            <p:nvPr/>
          </p:nvSpPr>
          <p:spPr>
            <a:xfrm>
              <a:off x="513360" y="1688760"/>
              <a:ext cx="829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sr-Latn-R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sr-Latn-R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itu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TextBox 5"/>
            <p:cNvSpPr/>
            <p:nvPr/>
          </p:nvSpPr>
          <p:spPr>
            <a:xfrm>
              <a:off x="504720" y="948600"/>
              <a:ext cx="8294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1" lang="sr-Latn-RS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POSTER TITL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" name="Picture 9" descr=""/>
            <p:cNvPicPr/>
            <p:nvPr/>
          </p:nvPicPr>
          <p:blipFill>
            <a:blip r:embed="rId1"/>
            <a:stretch/>
          </p:blipFill>
          <p:spPr>
            <a:xfrm>
              <a:off x="580320" y="749160"/>
              <a:ext cx="8142480" cy="33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Straight Connector 13"/>
          <p:cNvSpPr/>
          <p:nvPr/>
        </p:nvSpPr>
        <p:spPr>
          <a:xfrm>
            <a:off x="9145440" y="824040"/>
            <a:ext cx="0" cy="871380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7"/>
          <p:cNvSpPr/>
          <p:nvPr/>
        </p:nvSpPr>
        <p:spPr>
          <a:xfrm>
            <a:off x="5099040" y="4713120"/>
            <a:ext cx="3745080" cy="46087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ple picture/table/grap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21"/>
          <p:cNvGrpSpPr/>
          <p:nvPr/>
        </p:nvGrpSpPr>
        <p:grpSpPr>
          <a:xfrm>
            <a:off x="504720" y="2336760"/>
            <a:ext cx="8353440" cy="2244600"/>
            <a:chOff x="504720" y="2336760"/>
            <a:chExt cx="8353440" cy="2244600"/>
          </a:xfrm>
        </p:grpSpPr>
        <p:sp>
          <p:nvSpPr>
            <p:cNvPr id="48" name="Rectangle 16"/>
            <p:cNvSpPr/>
            <p:nvPr/>
          </p:nvSpPr>
          <p:spPr>
            <a:xfrm>
              <a:off x="504720" y="2336760"/>
              <a:ext cx="8353440" cy="504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sr-Latn-RS" sz="1800" spc="-1" strike="noStrike">
                  <a:solidFill>
                    <a:srgbClr val="1e1c11"/>
                  </a:solidFill>
                  <a:latin typeface="Times New Roman"/>
                  <a:ea typeface="Times New Roman"/>
                </a:rPr>
                <a:t>Introduc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Box 1"/>
            <p:cNvSpPr/>
            <p:nvPr/>
          </p:nvSpPr>
          <p:spPr>
            <a:xfrm>
              <a:off x="504720" y="2841480"/>
              <a:ext cx="8339400" cy="17398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Example text]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Group 25"/>
          <p:cNvGrpSpPr/>
          <p:nvPr/>
        </p:nvGrpSpPr>
        <p:grpSpPr>
          <a:xfrm>
            <a:off x="9505800" y="824040"/>
            <a:ext cx="8280720" cy="3341880"/>
            <a:chOff x="9505800" y="824040"/>
            <a:chExt cx="8280720" cy="3341880"/>
          </a:xfrm>
        </p:grpSpPr>
        <p:sp>
          <p:nvSpPr>
            <p:cNvPr id="51" name="Rectangle 32"/>
            <p:cNvSpPr/>
            <p:nvPr/>
          </p:nvSpPr>
          <p:spPr>
            <a:xfrm>
              <a:off x="9505800" y="824040"/>
              <a:ext cx="8280720" cy="504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sr-Latn-RS" sz="1800" spc="-1" strike="noStrike">
                  <a:solidFill>
                    <a:srgbClr val="1e1c11"/>
                  </a:solidFill>
                  <a:latin typeface="Times New Roman"/>
                  <a:ea typeface="Times New Roman"/>
                </a:rPr>
                <a:t>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Box 19"/>
            <p:cNvSpPr/>
            <p:nvPr/>
          </p:nvSpPr>
          <p:spPr>
            <a:xfrm>
              <a:off x="9505800" y="1328760"/>
              <a:ext cx="8280720" cy="2837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Example text]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26"/>
          <p:cNvGrpSpPr/>
          <p:nvPr/>
        </p:nvGrpSpPr>
        <p:grpSpPr>
          <a:xfrm>
            <a:off x="9505800" y="4324320"/>
            <a:ext cx="8280720" cy="2282760"/>
            <a:chOff x="9505800" y="4324320"/>
            <a:chExt cx="8280720" cy="2282760"/>
          </a:xfrm>
        </p:grpSpPr>
        <p:sp>
          <p:nvSpPr>
            <p:cNvPr id="54" name="Rectangle 34"/>
            <p:cNvSpPr/>
            <p:nvPr/>
          </p:nvSpPr>
          <p:spPr>
            <a:xfrm>
              <a:off x="9505800" y="4324320"/>
              <a:ext cx="8280720" cy="552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sr-Latn-RS" sz="1800" spc="-1" strike="noStrike">
                  <a:solidFill>
                    <a:srgbClr val="1e1c11"/>
                  </a:solidFill>
                  <a:latin typeface="Times New Roman"/>
                  <a:ea typeface="Times New Roman"/>
                </a:rPr>
                <a:t>Conclusion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TextBox 20"/>
            <p:cNvSpPr/>
            <p:nvPr/>
          </p:nvSpPr>
          <p:spPr>
            <a:xfrm>
              <a:off x="9505800" y="4867200"/>
              <a:ext cx="8280720" cy="17398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Example text]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27"/>
          <p:cNvGrpSpPr/>
          <p:nvPr/>
        </p:nvGrpSpPr>
        <p:grpSpPr>
          <a:xfrm>
            <a:off x="9505800" y="6931080"/>
            <a:ext cx="8280720" cy="2276280"/>
            <a:chOff x="9505800" y="6931080"/>
            <a:chExt cx="8280720" cy="2276280"/>
          </a:xfrm>
        </p:grpSpPr>
        <p:sp>
          <p:nvSpPr>
            <p:cNvPr id="57" name="Rectangle 40"/>
            <p:cNvSpPr/>
            <p:nvPr/>
          </p:nvSpPr>
          <p:spPr>
            <a:xfrm>
              <a:off x="9505800" y="6931080"/>
              <a:ext cx="8280720" cy="5364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sr-Latn-RS" sz="1800" spc="-1" strike="noStrike">
                  <a:solidFill>
                    <a:srgbClr val="1e1c11"/>
                  </a:solidFill>
                  <a:latin typeface="Times New Roman"/>
                  <a:ea typeface="Times New Roman"/>
                </a:rPr>
                <a:t>Referenc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Box 22"/>
            <p:cNvSpPr/>
            <p:nvPr/>
          </p:nvSpPr>
          <p:spPr>
            <a:xfrm>
              <a:off x="9505800" y="7467480"/>
              <a:ext cx="8280720" cy="17398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Example text]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24"/>
          <p:cNvGrpSpPr/>
          <p:nvPr/>
        </p:nvGrpSpPr>
        <p:grpSpPr>
          <a:xfrm>
            <a:off x="504720" y="4713120"/>
            <a:ext cx="4464000" cy="4228200"/>
            <a:chOff x="504720" y="4713120"/>
            <a:chExt cx="4464000" cy="4228200"/>
          </a:xfrm>
        </p:grpSpPr>
        <p:sp>
          <p:nvSpPr>
            <p:cNvPr id="60" name="Rectangle 18"/>
            <p:cNvSpPr/>
            <p:nvPr/>
          </p:nvSpPr>
          <p:spPr>
            <a:xfrm>
              <a:off x="504720" y="4713120"/>
              <a:ext cx="4464000" cy="5680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sr-Latn-RS" sz="1800" spc="-1" strike="noStrike">
                  <a:solidFill>
                    <a:srgbClr val="1e1c11"/>
                  </a:solidFill>
                  <a:latin typeface="Times New Roman"/>
                  <a:ea typeface="Times New Roman"/>
                </a:rPr>
                <a:t>Materials and method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23"/>
            <p:cNvSpPr/>
            <p:nvPr/>
          </p:nvSpPr>
          <p:spPr>
            <a:xfrm>
              <a:off x="504720" y="5281200"/>
              <a:ext cx="4464000" cy="3660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Example text]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3T07:13:49Z</dcterms:created>
  <dc:creator>Public Health Institute Niš</dc:creator>
  <dc:description/>
  <dc:language>en-US</dc:language>
  <cp:lastModifiedBy>Stefan Bogdanovic</cp:lastModifiedBy>
  <dcterms:modified xsi:type="dcterms:W3CDTF">2025-07-28T09:48:26Z</dcterms:modified>
  <cp:revision>18</cp:revision>
  <dc:subject/>
  <dc:title>Poster presentation template for 53DPM</dc:title>
</cp:coreProperties>
</file>